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23B-90EE-4E5A-9567-32D9C738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DFE-2F45-40F4-A41C-86F72980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042-3329-41C9-867B-ECE72FFD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639-A135-47A1-8466-3753EE2F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7B6-17A1-4DD8-A21C-B95290DC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801-D73D-49E2-837E-1F78414B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229-779F-46F8-8732-8C054FBA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64B-8A8A-4CA7-815E-EC8DCDDA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A25-EA46-4C66-95D3-77F4C416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066-FBB0-4A5C-8A51-2F1D0A7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8CA-46D8-4955-B638-3314D377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E2E-8FCA-4856-A56D-9BB2419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95A9-9921-4A9A-A26A-2166A6C8F046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HE_RD_skill_strategy_jan06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Minion"/>
              </a:rPr>
              <a:t>PHE RD Software Skill Strateg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HE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1, 22.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CAB-5928-44B0-B7FE-8E0598869D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907920"/>
            <a:ext cx="4176720" cy="5172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, Contract,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720" y="1052640"/>
            <a:ext cx="4032360" cy="4634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HE RD Software Skill Needs Aligned to Product Lay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112536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655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 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2060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378936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17528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, middleware, 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456264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 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496728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,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675360" y="3636000"/>
            <a:ext cx="2808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Frameworks,Com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492280"/>
            <a:ext cx="1081080" cy="15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2720" y="249228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,D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492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-6480" y="16002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981000"/>
            <a:ext cx="3960720" cy="1535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ore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annot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be outsourced or off-sh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lustered in very few locations (MUC, KLF: platform rela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st be brilliant people; can be exp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473200"/>
            <a:ext cx="3960720" cy="247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Basic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x of experienced staff and new university h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n be balanced between hi-lo cost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hould be organized in clusters of compet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xternal support staff for special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4292640"/>
            <a:ext cx="3960720" cy="179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Support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own basis on each CoC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0% for software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0% staff can be lo-cost, lo(wer) s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% - 30% external resources for peak sit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57720"/>
            <a:ext cx="22320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elephony, audio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F4A-1CB2-43F7-B195-EE848C7FC3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V="1">
            <a:off x="6227640" y="1125360"/>
            <a:ext cx="216072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298920" y="1125360"/>
            <a:ext cx="216036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Possibiliti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 flipV="1">
            <a:off x="1403280" y="979560"/>
            <a:ext cx="0" cy="496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594828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268280"/>
            <a:ext cx="2376360" cy="4199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0836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38680" y="1197000"/>
            <a:ext cx="3830400" cy="4248000"/>
            <a:chOff x="3838680" y="1197000"/>
            <a:chExt cx="3830400" cy="4248000"/>
          </a:xfrm>
        </p:grpSpPr>
        <p:sp>
          <p:nvSpPr>
            <p:cNvPr id="74" name=""/>
            <p:cNvSpPr/>
            <p:nvPr/>
          </p:nvSpPr>
          <p:spPr>
            <a:xfrm>
              <a:off x="3924360" y="1197000"/>
              <a:ext cx="3744720" cy="424800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38680" y="543240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3995640" y="1268280"/>
              <a:ext cx="3672000" cy="41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403280" y="313992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32640" y="597204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08472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040" y="64440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7320" y="20131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800" y="41590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31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36640" y="5942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11480" y="59421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111640"/>
            <a:ext cx="2376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4076640"/>
            <a:ext cx="3384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213000"/>
            <a:ext cx="1511280" cy="9464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3498840"/>
            <a:ext cx="1440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2924280"/>
            <a:ext cx="15112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4467240"/>
            <a:ext cx="2232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ameworks, Compon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5516640"/>
            <a:ext cx="2952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&amp; Contract &amp;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2019240"/>
            <a:ext cx="158400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4437000"/>
            <a:ext cx="158436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5280" y="1773360"/>
            <a:ext cx="108108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256536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VB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3716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l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11970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C19-F67D-4C88-86D3-E029C5A88C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flipV="1">
            <a:off x="6227640" y="1125360"/>
            <a:ext cx="216072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298920" y="1125360"/>
            <a:ext cx="216036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Possibiliti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1403280" y="979560"/>
            <a:ext cx="0" cy="496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594828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1268280"/>
            <a:ext cx="2376360" cy="4199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0836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38680" y="1197000"/>
            <a:ext cx="3830400" cy="4248000"/>
            <a:chOff x="3838680" y="1197000"/>
            <a:chExt cx="3830400" cy="4248000"/>
          </a:xfrm>
        </p:grpSpPr>
        <p:sp>
          <p:nvSpPr>
            <p:cNvPr id="108" name=""/>
            <p:cNvSpPr/>
            <p:nvPr/>
          </p:nvSpPr>
          <p:spPr>
            <a:xfrm>
              <a:off x="3924360" y="1197000"/>
              <a:ext cx="3744720" cy="424800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38680" y="543240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3995640" y="1268280"/>
              <a:ext cx="3672000" cy="41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403280" y="313992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32640" y="597204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8472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7040" y="64440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7320" y="20131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800" y="41590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31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36640" y="5942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11480" y="59421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5111640"/>
            <a:ext cx="2376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4076640"/>
            <a:ext cx="3384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3213000"/>
            <a:ext cx="1511280" cy="9464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3498840"/>
            <a:ext cx="1440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924280"/>
            <a:ext cx="15112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4467240"/>
            <a:ext cx="2232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ameworks, Compon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5516640"/>
            <a:ext cx="2952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&amp; Contract &amp;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5280" y="1773360"/>
            <a:ext cx="108108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256536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VB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3716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l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11970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3213000"/>
            <a:ext cx="3276720" cy="2664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MUC &amp; K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(Qualcomm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Apox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19640" y="2019240"/>
            <a:ext cx="158400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4437000"/>
            <a:ext cx="158436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1989000"/>
            <a:ext cx="2879640" cy="2160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W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981000"/>
            <a:ext cx="2016000" cy="1079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M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B7E-4FDD-442C-9701-D09B035C8C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Location Strateg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39640" y="770040"/>
            <a:ext cx="21607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3064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98240" y="8190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07440" y="87588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641160" y="9702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55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84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1319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24192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7068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9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82440" y="1322280"/>
            <a:ext cx="18752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va 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770040"/>
            <a:ext cx="21607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13064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38680" y="888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RO f. K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899800" y="87588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233520" y="9702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155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184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21319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32000" y="24192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27068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32000" y="29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32760" y="1322280"/>
            <a:ext cx="16786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AL/ULM int&amp;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ex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36240" y="1322280"/>
            <a:ext cx="4870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81120" y="132228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770040"/>
            <a:ext cx="21607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24360" y="13064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28160" y="88884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RO f. MU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5492160" y="87588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5826240" y="9702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155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184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21319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24192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27068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24360" y="29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90200" y="1322280"/>
            <a:ext cx="16786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ex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28960" y="1322280"/>
            <a:ext cx="4870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3480" y="132228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3435480"/>
            <a:ext cx="2160720" cy="331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39718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11360" y="3435480"/>
            <a:ext cx="8280" cy="33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687480" y="3435480"/>
            <a:ext cx="12600" cy="328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0" y="3484440"/>
            <a:ext cx="10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891880" y="35413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3225600" y="36356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42228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6624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59529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6440" y="3435480"/>
            <a:ext cx="2160720" cy="33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6440" y="39718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04080" y="3435480"/>
            <a:ext cx="0" cy="33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279840" y="3435480"/>
            <a:ext cx="12600" cy="33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29600" y="348444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5484240" y="35413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5817960" y="36356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6440" y="42228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644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644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644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644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6440" y="56624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16440" y="59529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22360" y="3330720"/>
            <a:ext cx="2178000" cy="2912400"/>
            <a:chOff x="522360" y="3330720"/>
            <a:chExt cx="2178000" cy="2912400"/>
          </a:xfrm>
        </p:grpSpPr>
        <p:sp>
          <p:nvSpPr>
            <p:cNvPr id="213" name=""/>
            <p:cNvSpPr/>
            <p:nvPr/>
          </p:nvSpPr>
          <p:spPr>
            <a:xfrm>
              <a:off x="539640" y="343980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39765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7280" y="34398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16000" y="34398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0520" y="348912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   </a:t>
              </a: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YS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307440" y="354564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641160" y="363996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640" y="4227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9640" y="45147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640" y="48020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9640" y="50893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640" y="53766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9640" y="56671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9640" y="5957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001520" y="4010040"/>
            <a:ext cx="16102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AL/ULM int&amp;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37000" y="3963960"/>
            <a:ext cx="19958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ex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520" y="132228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36240" y="4005360"/>
            <a:ext cx="48708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66720" y="3998880"/>
            <a:ext cx="3848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623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24360" y="623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0560" y="4005360"/>
            <a:ext cx="3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080" y="4010040"/>
            <a:ext cx="3848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56280" y="4005360"/>
            <a:ext cx="19958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UI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ex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41920" y="4005360"/>
            <a:ext cx="3848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30640" y="4005360"/>
            <a:ext cx="3848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920" y="132228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57400" y="0"/>
            <a:ext cx="4761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0000"/>
                </a:solidFill>
                <a:uFillTx/>
                <a:latin typeface="Minion"/>
                <a:ea typeface="文鼎中黑"/>
              </a:rPr>
              <a:t>very urgent</a:t>
            </a: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: need 31 architects, 9 integration 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3333cc"/>
                </a:solidFill>
                <a:uFillTx/>
                <a:latin typeface="Minion"/>
                <a:ea typeface="文鼎中黑"/>
              </a:rPr>
              <a:t>urgent</a:t>
            </a: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: 4 proj. Leaders, 8 sub-proj leade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6 contract mgrs, 7 UI experts, 5 core engine exp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652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65120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BE4-EE5A-4B35-A94B-A0F6E41343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Additional Locations: India or Chin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In a nutshell: Real ramp-up Not Now !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India or China (more so India) would make sense for development of „isolated“ software application packages that are not core and not close to platform and device lay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UI programming today is a parametrization effort rather than real programming, and is best done next to the platfor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MAO is partner for all „isolated“ software packages (Java, PC tools, customization tool); our obligation for work increases with our sales success in Brazi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From complexity point of view, we should do either MAO or India, but not bot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Support activities from India will continue on low load basis when needed (SISL, WIPRO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Possible topics for India in 1 – 2 yea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spcAft>
                <a:spcPts val="451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Simulation tools (today from IFX), esp. for Qualcom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spcAft>
                <a:spcPts val="451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</a:rPr>
              <a:t>Server software if the „thin client phone“ picks 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Next Step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Minion"/>
              </a:rPr>
              <a:t>Will be re-considered in 1 yea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817-32FB-4F1B-813F-4D00DC5B0A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HE RD: Hiring Tactic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305920" cy="567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In MUC, KLF, WRO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Internal referral program with bonus for everyone bringing a good hire (Euro 2500.-; 50% when signing, 50% after 7 months if new hire is still be employ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Program will be announced latest Feb. 1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In KLF: more flexibility with salaries needed to be competitive; for new hires and for key employees (proposal in preparation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General skill transi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Increase number of staff with informatics degrees (vs. Engineering degrees); analysis with HR under w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Besides online advertising (e.g. Monster), utilize classic media like VDI Nachrichten, ct, oth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Hiring initiatives at CEBIT and with Universities in prepar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Immediate Foc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31 architects &amp; technical experts in MUC und KL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9 integration managers in MUC und KL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4 proj. leaders, 8 sub-proj leaders, 6 contract mgrs, 7 UI experts, 5 core engine experts in MUC and KL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Freigabe Schritt 2b für Systemtest: insource 11 KLF and 15 MUC (bis Ende Jan 06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Insource 7 – 10 staff for Tools &amp; IT gro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Win back into RD key people from CM organization and other places that aren‘t directly contributing to the produc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Minion"/>
              </a:rPr>
              <a:t>Request for 12 – 15 people from C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Minion"/>
              </a:rPr>
              <a:t>Name list proposal will be provid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7" name=""/>
          <p:cNvSpPr/>
          <p:nvPr/>
        </p:nvSpPr>
        <p:spPr>
          <a:xfrm>
            <a:off x="4500720" y="6165720"/>
            <a:ext cx="144360" cy="574920"/>
          </a:xfrm>
          <a:custGeom>
            <a:avLst/>
            <a:gdLst>
              <a:gd name="textAreaLeft" fmla="*/ 0 w 144360"/>
              <a:gd name="textAreaRight" fmla="*/ 52200 w 144360"/>
              <a:gd name="textAreaTop" fmla="*/ 14760 h 574920"/>
              <a:gd name="textAreaBottom" fmla="*/ 5601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42040" y="614052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Minion"/>
                <a:ea typeface="文鼎中黑"/>
              </a:rPr>
              <a:t>need help from JE und C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7C5-91D2-4419-8848-5A2A873B9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iegfried Bocionek</cp:lastModifiedBy>
  <dcterms:modified xsi:type="dcterms:W3CDTF">2006-01-26T06:47:38Z</dcterms:modified>
  <cp:revision>113</cp:revision>
  <dc:subject/>
  <dc:title>PowerPoint 簡報</dc:title>
</cp:coreProperties>
</file>